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932-45A2-458E-B07C-A0891B8F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2C4-DA7C-406E-8C92-39672EAD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BCC-A734-49B9-B95A-9BE1B9A1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DA35-5FB9-4670-A48C-F4C9D56C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5CB0-18E2-4CEA-BB5F-F41AD3D1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AC8C-A2A7-432B-A095-C71FD502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30BD-AB85-444F-AE73-7D15080E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6499-9C7D-47F6-8C85-23F7E8D5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F8B0-E27E-4199-B6C1-F78F9F43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8C35-F9B7-4411-AA95-6FA11B6B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C576-578E-45F0-8A38-CC73AC2C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BEC-3919-4FD0-8592-11358CD3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153A-268E-4468-B8CF-057E0568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8B6C-86A3-45E9-A650-6825A415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0676-796D-4A3F-8547-E906A15F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CEC7-2D60-41BF-A45D-43E5EA8B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35B9-04A7-47F0-AB60-EE7ECFD7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F9882-C619-448F-A946-E64BA298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F8887-0412-42F0-821B-235762C4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C7885-31B0-4735-98DE-A8F0F781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D4011-CF26-40CF-B31D-92B3827A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7BBE0-5C71-4FC2-8B23-DBEC6703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EAA-88E2-4585-A1C8-44364BF2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86C1F-A363-429C-B895-D46E2F0F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54670-AF1E-47B1-B8EA-A3E333E9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E624E-C8A1-49A8-AB1F-C07B643B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28934-5FAD-4F82-A5F2-483EFD3C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28912-2AAF-4AD3-9D68-EE38F3DC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52C61-21DE-467B-A432-37DE991B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9078F-BA5D-40A1-998F-97B9470B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5474B-D100-4E06-8A91-8781B0E4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7C9ED-9E6D-450B-A7B0-A61329C1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D45B6-A432-496E-919E-39517CC9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B38-6D29-4715-B5C1-CE80C5E7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77783-93B8-4A31-B2F8-A4E31718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D43D6-5A30-4D4B-B209-A512443B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2DE3-6825-495A-B5FA-74535F3E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C6E7E-1637-492E-B7A4-9E81C875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7B60C-CB25-498A-AA4C-C41C0A14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FC045-D1D5-4932-931B-A96A5821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827DE-B2F0-4F16-AE74-966C926F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4FE94-0517-4DD8-BF11-5793545B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C421C-86DF-41D9-9933-27B81B49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3D1-752B-422B-80DE-235D9096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BD2-68DC-44D3-969A-9C419B06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1F6-6CBB-4744-98E0-3A55744E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62E-5AAF-49B0-991A-1812DA5C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45F-C5A9-4639-9F00-677F84A7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b3c6"/>
            </a:gs>
            <a:gs pos="100000">
              <a:srgbClr val="797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645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19FD-C5E1-4024-8060-E4DE5E352D1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b3c6"/>
            </a:gs>
            <a:gs pos="100000">
              <a:srgbClr val="797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45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eb9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409D-0DE3-45DE-B754-7759C8B7E72A}" type="slidenum">
              <a:rPr b="0" lang="en-US" sz="1200" spc="-1" strike="noStrike">
                <a:solidFill>
                  <a:srgbClr val="ceb9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b3c6"/>
            </a:gs>
            <a:gs pos="100000">
              <a:srgbClr val="797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45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E603-7CC8-4C7A-BE47-4728FAC0AFD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b3c6"/>
            </a:gs>
            <a:gs pos="100000">
              <a:srgbClr val="797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45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3534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C617-FE80-49FF-A3B0-70F3B07C41E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1-1 2</a:t>
            </a:r>
            <a:r>
              <a:rPr b="0" lang="en-US" sz="3600" spc="-1" strike="noStrike" baseline="30000">
                <a:solidFill>
                  <a:srgbClr val="ceb966"/>
                </a:solidFill>
                <a:latin typeface="Century Gothic"/>
              </a:rPr>
              <a:t>nd</a:t>
            </a: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 yr 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Little bit o’ this a little bit o’ that…..</a:t>
            </a:r>
            <a:endParaRPr b="0" lang="en-US" sz="18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Ir-to go- all 6 form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Voy vas va vamos vais va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star-all 6 form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stoy, estás, está, estamos,estáis, está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How do you know when to use estar?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How you feel and where you are- that is when you use estar!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‘ar verbs in the preterite/past tense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What are your ‘ar verb preterite tense endings?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é, aste, ó, amos, asteis, aro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‘ar verbs in the preterite/past tense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Pato swam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Él nadó </a:t>
            </a:r>
            <a:r>
              <a:rPr b="0" lang="en-US" sz="2400" spc="-1" strike="noStrike">
                <a:solidFill>
                  <a:srgbClr val="69676d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‘ar verbs in the preterite/past tense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y borded (the plane)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los abordaro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‘ar verbs in the preterite/past tense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he played (instr)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la tocó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ate regular ‘er/’ir verbs in the preterite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I drank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Yo bebí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ate regular ‘er/’ir verbs in the preterite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Javier y Miguel lived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los viviero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ate regular ‘er/’ir verbs in the preterite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y understood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los comprendieron/entendiero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What are the 3 types of endings of ‘ar verbs that are irregular in the ‘yo’form only?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Car=qué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Gar= gué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Zar= cé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Regla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Groups of 4ish- everybody has whiteboard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# off each perso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ra. puts up a questio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All people answer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ra. draws a paper (with a # on it) out of the cup- that person holds up their board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1pt. For each correct answer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Give an example of each of the 3 verbs which were addressed in the previous questions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i.e. tocar, sacar, explicar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76d"/>
                </a:solidFill>
                <a:latin typeface="Century Gothic"/>
              </a:rPr>
              <a:t>Jugar, pagar, apagar</a:t>
            </a:r>
            <a:endParaRPr b="0" lang="en-US" sz="22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76d"/>
                </a:solidFill>
                <a:latin typeface="Century Gothic"/>
              </a:rPr>
              <a:t>Almorzar, empezar, comenzar</a:t>
            </a:r>
            <a:endParaRPr b="0" lang="en-US" sz="22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76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69676d"/>
                </a:solidFill>
                <a:latin typeface="Century Gothic"/>
              </a:rPr>
              <a:t>if you had one that wasn’t on the above list= bonus point!</a:t>
            </a:r>
            <a:endParaRPr b="0" lang="en-US" sz="22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2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I went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Yo fui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y were (ser)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los fuero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he mad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la hizo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3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He saw m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Él me vio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You (s/fam)  gave her the cookies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ú le diste las galletas. 2pts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You pl/fam went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Vosotros fuistei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I mad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Yo hic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3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We saw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Nosotros vimo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Mariana and Raul read the novel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Mariana y Raul (Ellos) leyeron la novela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‘ar present tense endings are…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o,as,a, amos,áis ,a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andra set the table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andra puso la mesa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You (sing./fam) knew the truth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ú supiste la verdad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0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Manita and I came to the mountains in order to camp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Manita y yo vinimos a las montañas para acampar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!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(little) window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La ventanilla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aisl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 pasillo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counter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 mostrador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arriva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La llegada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ticket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 boleto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.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o play ches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Jugar al ajedrez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suitcas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La maleta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he work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la trabaja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excess luggag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 exceso de equipaj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Custom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La aduana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trip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 viaj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1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flight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 vuelo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8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security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La seguridad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You s/fam practic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ú practica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You pl/fam danc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Vosotros bailái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regular ‘er/’ir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ena y tú eat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Vosotros coméi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regular ‘er/’ir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duardo y yo ope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Nosotros abrimo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r- yes- all 6 forms!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oy eres es somos sois so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Btw- ¿Qué quiere decir ser?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o be!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What are some occasions that we use ser?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Origin, nationality, possession, time/date, relationships, profession, occasions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9:31:49Z</dcterms:created>
  <dc:creator>Coffman, Kristie</dc:creator>
  <dc:description/>
  <dc:language>en-US</dc:language>
  <cp:lastModifiedBy>Prine, Stephanie</cp:lastModifiedBy>
  <dcterms:modified xsi:type="dcterms:W3CDTF">2014-03-06T20:43:35Z</dcterms:modified>
  <cp:revision>9</cp:revision>
  <dc:subject/>
  <dc:title>1-1 2nd yr</dc:title>
</cp:coreProperties>
</file>